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B9D-348E-410B-8219-F8C6A42F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C02-3441-4010-AB4E-BE23B8D7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6F0-0BB2-4587-B507-14D7E6DD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8E3-F65A-4CE1-8E6D-404AA3DD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F925-415B-49D0-9660-C839A0A8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04FB-0A9B-4171-9617-78557762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E419-4978-41B1-8F2A-83E0242B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D629-6440-49B8-88C0-5C4EBADC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0FAD-2394-4BFA-A8F6-DABC8B0F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4446-D9E9-498B-9385-35164B95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B8D0-1EA7-4D53-94DB-68D7CBCF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C79-1414-43E9-915F-1BDC0A0F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1FF5-298D-45F0-B549-35083C4E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20A4-C826-429F-9C56-E1505A8E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4EA6-C2C0-4753-A37C-6226B651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C488-9784-4DCD-9329-B76BF141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27ED-2D9F-4E3E-B643-CA4029AB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18B-AB76-4BCC-A1A5-7F1230C2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FC5-8FE4-4BC9-9FFA-84D5D3F5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04A-8E7B-4352-8A4A-A707DA8A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33D-D373-4FE5-B436-8237E488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BBE-4565-4A85-8E4A-4235DC70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A15-B61A-4921-A90A-13246974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D7A-F608-4573-8046-9E0BDD7D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D08E-1292-4B96-B63E-66479CCDBC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5AC6-884D-4711-8C09-4FF66D0DFF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ig-Oh and AP Computer Science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udy Hromci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rlington High Schoo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erat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hS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e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sNext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xt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first call is O(log n) – O(1) amoritiz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PriorityQueu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ndard Min-Heap implement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orityQueu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ndom/Descending    Ascend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Min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ekMin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Empty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-Oh and Queu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u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List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ed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queue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queu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ekFront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Empty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-Oh and Sta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c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List*    Linked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sh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p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ekTop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Empty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*adding and removing at end of ArrayL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-Oh and Free Respo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B-1(part c): A library is a collection of library items and supports the following operation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Add a library item to the library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Check out a library item by specifying its ID and new holder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Determine the current holder of a library item, given its ID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ider the following incomplete class declaratio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public class Librar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private 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SomeClass 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item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public Library(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{ /* implementation not shown */ 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public void add(LibraryItem theIte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{ /* implementation not shown */ 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public void checkout(String id, String holder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{ /* implementation not shown */ 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public String getHolder(String id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{ /* implementation not shown */ 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-Oh and Free Respo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hoose a data representation for </a:t>
            </a:r>
            <a:r>
              <a:rPr b="1" lang="en-US" sz="1400" spc="-1" strike="noStrike">
                <a:solidFill>
                  <a:srgbClr val="003366"/>
                </a:solidFill>
                <a:latin typeface="Courier New"/>
              </a:rPr>
              <a:t>SomeClass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rom the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</a:rPr>
              <a:t>java.util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ass libra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at allows the operations add, checkout, and getHolder to be performed efficiently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 doing so, you must explain how you are using your chosen java.util class t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rganize your data and give the expected Big-Oh running time for each of thes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ree operations in terms of n, the number of items in the library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data representation (Circle one)    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How data is organiz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rrayList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LinkedLis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ashMap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reeMap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ashSet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reeSe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Operations Expected Big-Oh efficienc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d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heckou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getHold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-Oh and Free Respo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AB–2:(part b) Write the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VoterBallots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method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candidatesWithMost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. Method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candidatesWithMost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returns a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Set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of the name(s) of the candidate(s) in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voteCount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with th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most votes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In writing method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candidatesWithMost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, you may call the private helper method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maxVotes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olutions that reimplement functionality provided by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maxVotes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, rather than invoking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maxVotes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will not receive full credit. A solution that creates an unnecessary new instance of a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List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1000" spc="-1" strike="noStrike">
                <a:solidFill>
                  <a:srgbClr val="003366"/>
                </a:solidFill>
                <a:latin typeface="Courier New"/>
              </a:rPr>
              <a:t>Set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will not receive full credit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lete method 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candidatesWithMost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below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// postcondition: returns a set containing the candidate(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// with the most vo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public Set candidatesWithMost(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{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Set s = new HashSet(); </a:t>
            </a:r>
            <a:r>
              <a:rPr b="1" lang="en-US" sz="1200" spc="-1" strike="noStrike">
                <a:solidFill>
                  <a:srgbClr val="666699"/>
                </a:solidFill>
                <a:latin typeface="Courier New"/>
              </a:rPr>
              <a:t>//new TreeSet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Integer max = maxVotes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Iterator itr = voteCount.keySet().iterator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while(itr.hasNext()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Object obj = itr.next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if(voteCount.get(obj).equals(max)) </a:t>
            </a:r>
            <a:r>
              <a:rPr b="1" lang="en-US" sz="1000" spc="-1" strike="noStrike">
                <a:solidFill>
                  <a:srgbClr val="666699"/>
                </a:solidFill>
                <a:latin typeface="Courier New"/>
              </a:rPr>
              <a:t>//if(voteCount.get(obj).equals(maxVotes()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s.add(obj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return 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-Oh and Free Respo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-2:(part c) Assume that there ar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didates and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ters. What is the expected time complexity, in Big-O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ation in terms of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for your implementation o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hod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candidatesWithMo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17640" y="4191120"/>
          <a:ext cx="5770440" cy="2344680"/>
        </p:xfrm>
        <a:graphic>
          <a:graphicData uri="http://schemas.openxmlformats.org/drawingml/2006/table">
            <a:tbl>
              <a:tblPr/>
              <a:tblGrid>
                <a:gridCol w="1923840"/>
                <a:gridCol w="1922760"/>
                <a:gridCol w="1923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ing max in loop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eeMap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shMap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eeS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(c log c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(c log c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shS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(c log c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(c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-Oh and Free Respo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-2:(part c) Assume that there ar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didates and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ters. What is the expected time complexity, in Big-O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ation in terms of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for your implementation o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hod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candidatesWithMo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7640" y="4191120"/>
          <a:ext cx="5770440" cy="2286000"/>
        </p:xfrm>
        <a:graphic>
          <a:graphicData uri="http://schemas.openxmlformats.org/drawingml/2006/table">
            <a:tbl>
              <a:tblPr/>
              <a:tblGrid>
                <a:gridCol w="2206440"/>
                <a:gridCol w="1640160"/>
                <a:gridCol w="192384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ing maxVotes in loop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eeMap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shMap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eeS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(( c</a:t>
                      </a:r>
                      <a:r>
                        <a:rPr b="0" lang="en-US" sz="20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log c)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(c</a:t>
                      </a:r>
                      <a:r>
                        <a:rPr b="0" lang="en-US" sz="24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shS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(( c</a:t>
                      </a:r>
                      <a:r>
                        <a:rPr b="0" lang="en-US" sz="20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log c)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(c</a:t>
                      </a:r>
                      <a:r>
                        <a:rPr b="0" lang="en-US" sz="24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(index,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(index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(index,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(index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erator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z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ed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(index,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(index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(index,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(index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erat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z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ed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First(obj), addLast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First(), getLast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First(obj), removeLast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hS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erator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z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eS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cted/Wor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erator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z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hMa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Key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t(key,value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(key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(key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ySet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*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z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(n)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ll, O(1) subsequent call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eMa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cted/Wor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Key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t(key,value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(key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(key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log 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ySet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*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z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(n)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ll, O(1) subsequent ca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ig-Oh and the Java Subset Clas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erat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Li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ed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sNext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xt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(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Iter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(obj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01:47:59Z</dcterms:created>
  <dc:creator>AISD</dc:creator>
  <dc:description/>
  <dc:language>en-US</dc:language>
  <cp:lastModifiedBy>jacobo carrasquel</cp:lastModifiedBy>
  <dcterms:modified xsi:type="dcterms:W3CDTF">2004-07-01T15:20:04Z</dcterms:modified>
  <cp:revision>10</cp:revision>
  <dc:subject/>
  <dc:title>Big-Oh and AP Computer Science </dc:title>
</cp:coreProperties>
</file>